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57200" y="624852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 Law and the Public Schools:  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ss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2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41972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-</a:t>
            </a:r>
            <a:fld id="{A39BED3D-C683-425D-8846-9FFF3E3FAF1D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pearson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5181480"/>
            <a:ext cx="295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hool Law and the Public Sch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2 Pearson Education, Inc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earson"/>
          <p:cNvPicPr/>
          <p:nvPr/>
        </p:nvPicPr>
        <p:blipFill>
          <a:blip r:embed="rId3"/>
          <a:stretch/>
        </p:blipFill>
        <p:spPr>
          <a:xfrm>
            <a:off x="3975120" y="628668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, the Law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ensor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mited revi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chool sponsored publications may be permitted, b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road censorsh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school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 school sponsored newspapers are those not endorsed by the school but printed at students’ expense away from school premi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ublications may not be totally prohibited by school offici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trictions, however, may be imposed regarding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distrib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h restrictions are recognized as conditions affecting freedom of press not prohib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who are responsible for producing the newspapers are held accountable for any libelous material printed in the newspap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ress and Appear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 dress as a form of free expression is not viewed as significantly as most other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, however, a first amendment freedom associated with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ress may be regulated if there is a defensible basis for doing 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ever, school regulations that violate students’ right by being vague, ambiguous and failing to demonstrate a connection to disruption will not meet court scrutin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oversial Sloga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logans worn on T-shirts, caps and other media that are in direct  conflict with the school’s stated mission may be regul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ose expressions which violate standards of common decency, contain vulgar, lewd and otherwise obscene gestures also may be regula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 Suspen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suspension still is considered a legal form of discipline for students who violate school or district polic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- school suspensions used by 91% of the school districts in the United States, whereas out-of-school suspensions are used by 95% of the distri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cedural and Substantive Due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are two types of due process, both of which apply in the school setting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means that if a person is to be deprived of life, liberty or property, a prescribed constitutional procedure must be followed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nsures that a valid reason exists if a person is deprived of life, liberty or property and that the means used to deprive the person are reaso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41160" y="11430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ficials are granted broad powers to establish rules and regulations governing student conduct in the school sett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owers, however, are not absolu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ul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like suspension, expulsion is considered one of the more severe forms of discipline because it involves long-term separation from the school district and in some instances permanent sepa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es may be conducted by school personnel if reasonable suspicion is esta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able suspicion is based on information received from students or teachers that is considered reliable by school officials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ersonal Search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should be a sense of urgency based on a belief that the student has in his or her possession some dangerous item that could pose a serious threat to health and safety of the student or others in the schoo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volvement of Law Enforcement Officia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law enforcement officials enter the school to conduct a search, the search must be preced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rr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a warrant is issued, strong evidence involving  probable cause should be esta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al Dete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metal detectors, like other intrusive methods, must be justified as reasonable and necessary to meet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case, maintaining a safe and orderly school environment was considered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poral Punish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usually involves the use of physical contact for disciplinary purpos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as a disciplinary tool is not uncommon within school systems in the United Sta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assroom Harass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harassment is a form of sexual discrimination based on the U.S. Supreme Court’s ruling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vis v. Monroe Co. Board of Edu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officials are liable if they are clearly unreasonable and deliberately indifferent toward the alleged harassing cond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gnant and 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urts have generally held that pregnant and married students may not be denied the opportunity to attend schoo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s for the court’s position is that these students must be afforded equal protection under the law, as well as due process of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ried students have the right to attend public school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rules designed to exclude married students from attending school are invalid and in violation of their Fourteenth Amendment rights—namely equal protection under the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subject to the standar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“reasonableness.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lly, rules are deemed to be reasonable if they are necessary to maintain an orderly and peaceful school environment and advance the educational proces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students enjoy many of the same constitutional rights as adults, courts have been very diligent in ensuring that their constitutional rights be protec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landmar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nk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case, the U.S. Supreme Court for the first time held th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possess the same constitutional rights as adults and that these rights do not end at the school house do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tests and Demonst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sts and demonstrations are considered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us, students are afforded the right to participate in these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 long as these activities are peaceful, and do not violate school rules or result in destruction of school property, they cannot be disallow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-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rts generally hold that a school publication has the responsibility for providing a forum for students to express their ideas and views on a variety of topics of interest to the school commun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the newspaper is intended to represent a forum for student expression, those responsible for its production should be mindful of their obligation to embrace responsible rules of journalism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censorship by school officials is not permitted and is in violation of the free speech rights of stud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5:01:27Z</dcterms:created>
  <dc:creator>cbrown</dc:creator>
  <dc:description/>
  <dc:language>en-US</dc:language>
  <cp:lastModifiedBy>T61Image</cp:lastModifiedBy>
  <dcterms:modified xsi:type="dcterms:W3CDTF">2013-09-16T22:51:18Z</dcterms:modified>
  <cp:revision>63</cp:revision>
  <dc:subject/>
  <dc:title>PowerPoint Presentation</dc:title>
</cp:coreProperties>
</file>